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</p:sldIdLst>
  <p:sldSz cx="9180513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sldImg"/>
          </p:nvPr>
        </p:nvSpPr>
        <p:spPr>
          <a:xfrm>
            <a:off x="1141560" y="685440"/>
            <a:ext cx="45748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1FFDF-DA96-4E65-A824-794C4AA00A9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61546-473C-4D54-8067-2A3B7593B2D4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488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E417A-5915-4242-973C-40F1610A7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40960" y="43196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D01AD-EE49-401A-8292-302FC0099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9880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B6B34-6BDF-4FD7-A210-8F431F9D2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5204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6348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4096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5204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6348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9AD79-E072-41CC-96E2-1C871EC0F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8CDF0-FCF4-4D36-9A38-C6758252D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46CF9-EA59-49D1-B5DA-929A86847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3B124-F225-4918-897F-6095284F9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C45D8-4396-4F20-B8B4-344B5994D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F1C27-6045-4A7F-B33C-D976CACF9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837720" y="836280"/>
            <a:ext cx="7811280" cy="464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A64A9-C427-4F11-AC3E-DC5C52C38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B951A-87A1-49C1-9EF7-133458527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E9BF7-4AA4-4C8A-B1F5-CB66DF4E2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79880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B4EF5-BA29-433A-9E87-0CA328A62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1363D-F176-49E7-B035-5052462DB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840960" y="43196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63AD5-CF0D-4051-97CE-02E5A4EE3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79880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F940E-6917-4625-80FD-A607B831D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45204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6348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84096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45204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6348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3FA63-F19D-47ED-A97B-A23022C03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97FCEF-C689-4066-8E9E-649928675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DA4CE2-6166-4A4D-B93A-95334AD6A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B0242A-855F-409E-AEF2-E141AA199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46C209-6E8E-4C87-AF82-0C0B3491D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E0E326-915B-422B-8802-4F1BB9465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5C31A-99CA-4DB6-B15D-B2F56B6D0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837720" y="836280"/>
            <a:ext cx="7811280" cy="464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9CE8BD-2D51-4E5E-BC63-A0AF0D229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9998D6-B8D9-4BCD-87C8-BD76E74F4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79880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A17B16-EDFA-44A5-A8A9-50522FCC0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1126B7-25A5-4B42-B1D3-1934F8186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840960" y="43196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29DAB0-1E50-4A60-90BC-34E2C4F6D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79880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23CE11-4DD7-4F19-AA47-540A9BBD6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45204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06348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84096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45204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06348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FFCFAE-DD44-47E4-A915-62D707AF7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C4BB53-5A0D-4024-9AB3-7C091BBF2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B51AA6-FF49-4AD8-974F-C816D6974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D60CA3-E094-478D-A44D-93049E171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5F1B9-7B19-4634-B68B-17B397383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53048B-358E-4B8E-A5A7-E9E5A972B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BEB640-4777-4444-BF34-230D78B65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837720" y="836280"/>
            <a:ext cx="7811280" cy="464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76EF00-28FA-45B5-8273-8F959BD23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773BC9-F74F-42B3-B416-BDF99B016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9880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2FCFD4-3EBD-40A7-A8AD-FD59CA440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1E202E-F465-4694-AB6C-96EDD6212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840960" y="43196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5AE807-47DE-42CC-90E6-2B4CC00E5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9880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4EFF2C-33E2-4C4D-B2CD-EA34DC0B8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45204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6348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84096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45204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6348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78237E-3164-4265-B2F6-B2B6DBCE1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2A4812-CD8F-4CA1-BDB9-14CAD622F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62B6A-9539-4B62-911E-72FD73808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357D80-2600-49ED-AF09-081DEF89E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20E1A5-AC4C-4F14-B66D-5400D9AE1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025CCE-C804-47DB-A47A-E737D0FFA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F0C649-A032-4FC7-AA9D-5AA87E980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837720" y="836280"/>
            <a:ext cx="7811280" cy="464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F1F04E-A554-4217-BC62-CA8A9C552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B04050-DA8D-46D0-8E42-FB6CB64FA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79880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96FD73-9F27-42C1-BB7F-9BD5FE25D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1BE3CA-35F8-42F2-8BA1-DCA29ABB1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840960" y="43196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50AD08-F9BF-47EA-8840-E195CE1B0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79880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84C485-39C5-4FA5-80A0-143D35853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7720" y="836280"/>
            <a:ext cx="7811280" cy="464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F9612-5A9D-4097-809C-A569A1D8B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45204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06348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84096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45204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606348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23798C-B902-4316-AD53-4B38B2AE6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41E41-3416-4980-B9BE-19D9F8A1F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9880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42E2D-9183-4C5F-95B8-138F7AA39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B91B6-B789-4879-A336-6D34116C8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49280" cy="6876360"/>
            <a:chOff x="0" y="0"/>
            <a:chExt cx="7649280" cy="687636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12280" cy="6876360"/>
              <a:chOff x="0" y="0"/>
              <a:chExt cx="3212280" cy="687636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5000" cy="687636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8640" y="0"/>
                <a:ext cx="2753640" cy="116964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9320" y="1986480"/>
              <a:ext cx="7419960" cy="319680"/>
              <a:chOff x="229320" y="1986480"/>
              <a:chExt cx="7419960" cy="31968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11640" y="1986480"/>
                <a:ext cx="7037640" cy="31788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9320" y="1986480"/>
                <a:ext cx="395280" cy="31968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4240" y="6259680"/>
            <a:ext cx="590400" cy="490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2FAFD-503D-415F-ADA0-5A52DABF38DD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152280"/>
            <a:ext cx="8721360" cy="6113160"/>
            <a:chOff x="0" y="152280"/>
            <a:chExt cx="8721360" cy="6113160"/>
          </a:xfrm>
        </p:grpSpPr>
        <p:sp>
          <p:nvSpPr>
            <p:cNvPr id="49" name="AutoShape 3"/>
            <p:cNvSpPr/>
            <p:nvPr/>
          </p:nvSpPr>
          <p:spPr>
            <a:xfrm>
              <a:off x="382320" y="534600"/>
              <a:ext cx="8339040" cy="573084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0" y="152280"/>
              <a:ext cx="8568720" cy="122256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" name="Line 5"/>
            <p:cNvSpPr/>
            <p:nvPr/>
          </p:nvSpPr>
          <p:spPr>
            <a:xfrm>
              <a:off x="0" y="1222200"/>
              <a:ext cx="81097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12360" y="1604880"/>
            <a:ext cx="7954920" cy="4432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458640" y="6265440"/>
            <a:ext cx="2143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3137040" y="626544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6578280" y="6265440"/>
            <a:ext cx="214308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F3E69-9E43-489C-8496-483D23C66A8E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2"/>
          <p:cNvGrpSpPr/>
          <p:nvPr/>
        </p:nvGrpSpPr>
        <p:grpSpPr>
          <a:xfrm>
            <a:off x="0" y="0"/>
            <a:ext cx="5890680" cy="6876720"/>
            <a:chOff x="0" y="0"/>
            <a:chExt cx="5890680" cy="6876720"/>
          </a:xfrm>
        </p:grpSpPr>
        <p:sp>
          <p:nvSpPr>
            <p:cNvPr id="94" name="Rectangle 3"/>
            <p:cNvSpPr/>
            <p:nvPr/>
          </p:nvSpPr>
          <p:spPr>
            <a:xfrm>
              <a:off x="0" y="0"/>
              <a:ext cx="4590360" cy="687672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5" name="AutoShape 4"/>
            <p:cNvSpPr/>
            <p:nvPr/>
          </p:nvSpPr>
          <p:spPr>
            <a:xfrm>
              <a:off x="688320" y="993240"/>
              <a:ext cx="5202360" cy="19098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96" name="Group 5"/>
          <p:cNvGrpSpPr/>
          <p:nvPr/>
        </p:nvGrpSpPr>
        <p:grpSpPr>
          <a:xfrm>
            <a:off x="3646440" y="4903920"/>
            <a:ext cx="4895640" cy="318960"/>
            <a:chOff x="3646440" y="4903920"/>
            <a:chExt cx="4895640" cy="318960"/>
          </a:xfrm>
        </p:grpSpPr>
        <p:sp>
          <p:nvSpPr>
            <p:cNvPr id="97" name="AutoShape 6"/>
            <p:cNvSpPr/>
            <p:nvPr/>
          </p:nvSpPr>
          <p:spPr>
            <a:xfrm flipH="1">
              <a:off x="3646440" y="4903920"/>
              <a:ext cx="4644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8" name="AutoShape 7"/>
            <p:cNvSpPr/>
            <p:nvPr/>
          </p:nvSpPr>
          <p:spPr>
            <a:xfrm>
              <a:off x="8281080" y="4903920"/>
              <a:ext cx="26100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dt" idx="7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ftr" idx="8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sldNum" idx="9"/>
          </p:nvPr>
        </p:nvSpPr>
        <p:spPr>
          <a:xfrm>
            <a:off x="76320" y="6265440"/>
            <a:ext cx="590400" cy="4906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68743-21A7-43B9-9BA8-8AA70BA7A9AB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" name="Group 2"/>
          <p:cNvGrpSpPr/>
          <p:nvPr/>
        </p:nvGrpSpPr>
        <p:grpSpPr>
          <a:xfrm>
            <a:off x="0" y="0"/>
            <a:ext cx="7649280" cy="6876360"/>
            <a:chOff x="0" y="0"/>
            <a:chExt cx="7649280" cy="6876360"/>
          </a:xfrm>
        </p:grpSpPr>
        <p:grpSp>
          <p:nvGrpSpPr>
            <p:cNvPr id="141" name="Group 3"/>
            <p:cNvGrpSpPr/>
            <p:nvPr/>
          </p:nvGrpSpPr>
          <p:grpSpPr>
            <a:xfrm>
              <a:off x="0" y="0"/>
              <a:ext cx="3212280" cy="6876360"/>
              <a:chOff x="0" y="0"/>
              <a:chExt cx="3212280" cy="6876360"/>
            </a:xfrm>
          </p:grpSpPr>
          <p:sp>
            <p:nvSpPr>
              <p:cNvPr id="142" name="Rectangle 4"/>
              <p:cNvSpPr/>
              <p:nvPr/>
            </p:nvSpPr>
            <p:spPr>
              <a:xfrm>
                <a:off x="0" y="0"/>
                <a:ext cx="765000" cy="687636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3" name="Freeform 5"/>
              <p:cNvSpPr/>
              <p:nvPr/>
            </p:nvSpPr>
            <p:spPr>
              <a:xfrm>
                <a:off x="458640" y="0"/>
                <a:ext cx="2753640" cy="116964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44" name="Group 6"/>
            <p:cNvGrpSpPr/>
            <p:nvPr/>
          </p:nvGrpSpPr>
          <p:grpSpPr>
            <a:xfrm>
              <a:off x="229320" y="1986480"/>
              <a:ext cx="7419960" cy="319680"/>
              <a:chOff x="229320" y="1986480"/>
              <a:chExt cx="7419960" cy="319680"/>
            </a:xfrm>
          </p:grpSpPr>
          <p:sp>
            <p:nvSpPr>
              <p:cNvPr id="145" name="AutoShape 7"/>
              <p:cNvSpPr/>
              <p:nvPr/>
            </p:nvSpPr>
            <p:spPr>
              <a:xfrm>
                <a:off x="611640" y="1986480"/>
                <a:ext cx="7037640" cy="31788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6" name="AutoShape 8"/>
              <p:cNvSpPr/>
              <p:nvPr/>
            </p:nvSpPr>
            <p:spPr>
              <a:xfrm flipH="1">
                <a:off x="229320" y="1986480"/>
                <a:ext cx="395280" cy="31968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4240" y="6259680"/>
            <a:ext cx="590400" cy="490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25DD7-8489-4AD1-8332-10E7ACC7F146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Group 2"/>
          <p:cNvGrpSpPr/>
          <p:nvPr/>
        </p:nvGrpSpPr>
        <p:grpSpPr>
          <a:xfrm>
            <a:off x="0" y="930240"/>
            <a:ext cx="9027720" cy="4506480"/>
            <a:chOff x="0" y="930240"/>
            <a:chExt cx="9027720" cy="4506480"/>
          </a:xfrm>
        </p:grpSpPr>
        <p:sp>
          <p:nvSpPr>
            <p:cNvPr id="189" name="AutoShape 3"/>
            <p:cNvSpPr/>
            <p:nvPr/>
          </p:nvSpPr>
          <p:spPr>
            <a:xfrm>
              <a:off x="688320" y="2075760"/>
              <a:ext cx="7421400" cy="336096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0" name="Rectangle 4"/>
            <p:cNvSpPr/>
            <p:nvPr/>
          </p:nvSpPr>
          <p:spPr>
            <a:xfrm>
              <a:off x="229320" y="930240"/>
              <a:ext cx="7191720" cy="99288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1" name="AutoShape 5"/>
            <p:cNvSpPr/>
            <p:nvPr/>
          </p:nvSpPr>
          <p:spPr>
            <a:xfrm>
              <a:off x="0" y="1388520"/>
              <a:ext cx="9027720" cy="18331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2" name="Line 6"/>
            <p:cNvSpPr/>
            <p:nvPr/>
          </p:nvSpPr>
          <p:spPr>
            <a:xfrm>
              <a:off x="0" y="3069000"/>
              <a:ext cx="833940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12360" y="1604880"/>
            <a:ext cx="7954920" cy="4432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dt" idx="13"/>
          </p:nvPr>
        </p:nvSpPr>
        <p:spPr>
          <a:xfrm>
            <a:off x="458640" y="6265800"/>
            <a:ext cx="214344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ftr" idx="14"/>
          </p:nvPr>
        </p:nvSpPr>
        <p:spPr>
          <a:xfrm>
            <a:off x="3137040" y="627012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sldNum" idx="15"/>
          </p:nvPr>
        </p:nvSpPr>
        <p:spPr>
          <a:xfrm>
            <a:off x="6578280" y="6265800"/>
            <a:ext cx="214308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A2158-C3C6-4040-832D-5E7682E93A7E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25080" y="198360"/>
            <a:ext cx="8334360" cy="87624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СРАВНЕНИЕ ОБЪЕМОВ МЕЖБЮДЖЕТНЫХ ТРАНСФЕРТОВ 201</a:t>
            </a:r>
            <a:r>
              <a:rPr b="0" lang="en-US" sz="1900" spc="-1" strike="noStrike">
                <a:solidFill>
                  <a:srgbClr val="06072e"/>
                </a:solidFill>
                <a:latin typeface="Times New Roman"/>
              </a:rPr>
              <a:t>9</a:t>
            </a: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 И 20</a:t>
            </a:r>
            <a:r>
              <a:rPr b="0" lang="en-US" sz="1900" spc="-1" strike="noStrike">
                <a:solidFill>
                  <a:srgbClr val="06072e"/>
                </a:solidFill>
                <a:latin typeface="Times New Roman"/>
              </a:rPr>
              <a:t>20</a:t>
            </a: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-202</a:t>
            </a:r>
            <a:r>
              <a:rPr b="0" lang="en-US" sz="1900" spc="-1" strike="noStrike">
                <a:solidFill>
                  <a:srgbClr val="06072e"/>
                </a:solidFill>
                <a:latin typeface="Times New Roman"/>
              </a:rPr>
              <a:t>2</a:t>
            </a: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 ГОДОВ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2" name="Object 4" descr=""/>
          <p:cNvPicPr/>
          <p:nvPr/>
        </p:nvPicPr>
        <p:blipFill>
          <a:blip r:embed="rId1"/>
          <a:stretch/>
        </p:blipFill>
        <p:spPr>
          <a:xfrm>
            <a:off x="325440" y="1138320"/>
            <a:ext cx="4686120" cy="573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3" name=""/>
          <p:cNvGraphicFramePr/>
          <p:nvPr/>
        </p:nvGraphicFramePr>
        <p:xfrm>
          <a:off x="5240160" y="1141560"/>
          <a:ext cx="3470400" cy="5673600"/>
        </p:xfrm>
        <a:graphic>
          <a:graphicData uri="http://schemas.openxmlformats.org/drawingml/2006/table">
            <a:tbl>
              <a:tblPr/>
              <a:tblGrid>
                <a:gridCol w="1590840"/>
                <a:gridCol w="1879560"/>
              </a:tblGrid>
              <a:tr h="784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иды межбюджетных трансфер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пределение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1158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ubvenire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– приходить на помощь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на финансирование «переданных» полномоч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7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я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ubsidium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– поддержка)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на условиях долевого софинансирования расходов других бюдже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</a:tr>
              <a:tr h="1201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Dotatio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– дар, пожертвование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я без определения конкетной цели их использовани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</a:tr>
              <a:tr h="13716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ные межбюджетные трансферты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из бюджетов разного уровня в соответствии с нормативными актами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 txBox="1"/>
          <p:nvPr/>
        </p:nvSpPr>
        <p:spPr>
          <a:xfrm>
            <a:off x="578160" y="36720"/>
            <a:ext cx="8119440" cy="5076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БЕЗВОЗМЕЗДНЫЕ ПОСТУПЛЕНИЯ ОТ ДРУГИХ БЮДЖЕТОВ БЮДЖЕТНОЙ СИСТЕМЫ РОССИЙСКОЙ ФЕДЕРАЦИИ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45" name=""/>
          <p:cNvGraphicFramePr/>
          <p:nvPr/>
        </p:nvGraphicFramePr>
        <p:xfrm>
          <a:off x="414360" y="581040"/>
          <a:ext cx="8567640" cy="6708600"/>
        </p:xfrm>
        <a:graphic>
          <a:graphicData uri="http://schemas.openxmlformats.org/drawingml/2006/table">
            <a:tbl>
              <a:tblPr/>
              <a:tblGrid>
                <a:gridCol w="4027320"/>
                <a:gridCol w="1244880"/>
                <a:gridCol w="950760"/>
                <a:gridCol w="806400"/>
                <a:gridCol w="804960"/>
                <a:gridCol w="73332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к 20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39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, всего в том числе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6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10,5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,7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7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2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бюджетам городских округов на выравнивание бюджетной обеспеченности и по обеспечению сбалансированност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6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бюджетам на реализацию мероприятий по обеспечению жильем молодых семей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3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7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8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9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Субсидии бюджетам на реализацию программ формирования современной городской среды</a:t>
                      </a:r>
                      <a:r>
                        <a:rPr b="1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и благоустройство дворовых территорий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7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Субсидии на строительство детского сада, ремонт зданий и благо-устройство территорий детских садов, капитальный ремонт школ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5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2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сидии бюджетам на реализацию мероприятий и на поддержку государственных программ Российской Федерац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6,9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9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1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субвенций бюджету Дальнереченского городского округа: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3,2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18,8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95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государственных гарантий реализации прав на получение дошкольного образования в детских садах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95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реализацию образования в школах по основным общеобразовательным программа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5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7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7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7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4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обучающихся бесплатным питание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6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7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рганизацию и обеспечение оздоровления и отдыха детей Приморского края (за исключением организации отдыха детей в каникулярное время)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8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социальную поддержку детей-сирот и лиц, принявших на воспитание детей-сирот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7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,4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детей-сирот жилыми помещениям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,7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,7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,7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венции на выполнение переданных полномочий Российской Федерации и субъектов Российской Федерац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,5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9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 txBox="1"/>
          <p:nvPr/>
        </p:nvSpPr>
        <p:spPr>
          <a:xfrm>
            <a:off x="1254240" y="331920"/>
            <a:ext cx="7412760" cy="7484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700" spc="-1" strike="noStrike">
                <a:solidFill>
                  <a:srgbClr val="006666"/>
                </a:solidFill>
                <a:latin typeface="Arial"/>
              </a:rPr>
              <a:t>СТРУКТУРА СУБВЕНЦИЙ НА ВЫПОЛНЕНИЕ ПЕРЕДАВАЕМЫХ ПОЛНОМОЧИЙ В 20</a:t>
            </a:r>
            <a:r>
              <a:rPr b="1" lang="en-US" sz="1700" spc="-1" strike="noStrike">
                <a:solidFill>
                  <a:srgbClr val="006666"/>
                </a:solidFill>
                <a:latin typeface="Arial"/>
              </a:rPr>
              <a:t>20</a:t>
            </a:r>
            <a:r>
              <a:rPr b="1" lang="ru-RU" sz="1700" spc="-1" strike="noStrike">
                <a:solidFill>
                  <a:srgbClr val="006666"/>
                </a:solidFill>
                <a:latin typeface="Arial"/>
              </a:rPr>
              <a:t>ГОДУ (318,85 млн.руб.)</a:t>
            </a:r>
            <a:endParaRPr b="1" lang="en-US" sz="17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47" name="Object 6" descr=""/>
          <p:cNvPicPr/>
          <p:nvPr/>
        </p:nvPicPr>
        <p:blipFill>
          <a:blip r:embed="rId1"/>
          <a:stretch/>
        </p:blipFill>
        <p:spPr>
          <a:xfrm>
            <a:off x="517680" y="1152360"/>
            <a:ext cx="8459640" cy="535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Куранова</cp:lastModifiedBy>
  <dcterms:modified xsi:type="dcterms:W3CDTF">2020-02-06T00:08:13Z</dcterms:modified>
  <cp:revision>160</cp:revision>
  <dc:subject/>
  <dc:title>Структура собственных доходов на 2016 год бюджета Дальнереченского городского округа</dc:title>
</cp:coreProperties>
</file>